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1E7-277D-415E-86A5-1C8F74F6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712-C048-4774-BA55-4DA779DD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763-4C1B-4AEE-8A99-D10D32DB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FE1-90E5-4F21-A5E6-304B44C3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B7F5-13E5-4C41-A70D-AF277A8C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AE1A-793F-47EA-AF7F-F818D946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6FCF-4540-462B-AFBB-BCD6E06D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6770-0BDC-44CA-91E7-CD9E73EF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F0F6-5FB8-49C1-BDB6-1FAF914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A18A-1F3B-4CF2-AA92-A74A9926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25B-3968-436A-8687-9B5100A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0EC-6613-42ED-B982-C062744B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319B-4162-40A2-A471-C50D0FBB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57B-03FC-47EF-B29D-0C6F6760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397A-65D9-4C47-AD62-A51E3CCA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3FE-D3AA-4582-9CE2-9D78673B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B6D0-499F-455E-9E83-D33A909E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32F-71F0-484F-8AF2-EECC5A3F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C6C-F118-4FF2-AAB0-4E9CE9C3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08E-FA00-4E87-8EC4-B9E6458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7C0-3D8B-49BB-85A0-6103A228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C3D-DF42-4186-9C4F-BC55F9E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098-7879-458E-BFFD-FE59B745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AA3-18A0-4EC3-93C4-55458E9B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0322-BBFA-4879-8E47-CCF9C5E9F6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9B43-F0B0-49EA-9A97-8A4271EB99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ffffff"/>
                </a:solidFill>
                <a:latin typeface="Times New Roman"/>
              </a:rPr>
              <a:t>Cheka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By: Bing Bing Guo, Clara Duncan, Kate Jevo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e Begining of Che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ka was created in December 1917, a short while after the Bolsheviks had seized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in appointed Felix Dzerzhinsky as the head of the Cheka which was also know as the All-Russian Extraordinary Commission for Combating Counter-Revolution and Sabo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ka was Lenin’s (or the Bolsheviks) secret police, but later changed into the Soviet secret pol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What Does the Cheka Do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main goals of the Cheka was to locate any type of treason and eliminate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investigated and eliminated all actions or attempts connected with counter-revolution or sabotage, no matter where or whom it came from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 of the saboteurs and counter revolutionaries caught were not given trials, and the Cheka was given permission to fight them using what ever kind of force they deemed necessary. </a:t>
            </a:r>
            <a:r>
              <a:rPr b="0" lang="fr-FR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e Che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April 1918 the Cheka set up its own three man court called the troika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troikas gave the Cheka more power such as; the power to perform investigation, arrest, interrogation, prosecution, trial, and the power to carry out the death penalt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ter that summer the increase of the Chekas activities initiated the Red Terror which led up until the war.</a:t>
            </a:r>
            <a:r>
              <a:rPr b="0" lang="fr-FR" sz="2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e Che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fter the attempted assassination of Lenin and the successful assassination of the German ambassador, the Cheka by members of the Left Social Revolutionaries  the Cheka became busier then ev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initiated a period of mass executions of people not only based on sabotage, but their beliefs and class origins too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Cheka executed 350 Social Revolutionaries and shot 512 hostages dude to the successful assassination of the German ambassador and the attempted assassination of Lenin.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e Che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heka also initiated slave labor camps and not only imprisoned the undesirables but also the bourgeoisie (middle class citizens)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were  also known to practice torture on their prisone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heka had various names, and was later known as the KGB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were formally abolished in 1922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6:05:57Z</dcterms:created>
  <dc:creator>gjj</dc:creator>
  <dc:description/>
  <dc:language>en-US</dc:language>
  <cp:lastModifiedBy>gjj</cp:lastModifiedBy>
  <dcterms:modified xsi:type="dcterms:W3CDTF">2007-11-12T09:33:29Z</dcterms:modified>
  <cp:revision>7</cp:revision>
  <dc:subject/>
  <dc:title>Cheka</dc:title>
</cp:coreProperties>
</file>